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slideMaster4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9.xml" ContentType="application/vnd.openxmlformats-officedocument.presentationml.slideMaster+xml"/>
  <Override PartName="/ppt/theme/theme56.xml" ContentType="application/vnd.openxmlformats-officedocument.theme+xml"/>
  <Override PartName="/ppt/theme/theme25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59.xml" ContentType="application/vnd.openxmlformats-officedocument.theme+xml"/>
  <Override PartName="/ppt/theme/theme3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54.xml" ContentType="application/vnd.openxmlformats-officedocument.theme+xml"/>
  <Override PartName="/ppt/theme/theme5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9.jpeg" ContentType="image/jpe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</p:sldMasterIdLst>
  <p:notesMasterIdLst>
    <p:notesMasterId r:id="rId61"/>
  </p:notesMasterIdLst>
  <p:sldIdLst>
    <p:sldId id="256" r:id="rId62"/>
    <p:sldId id="257" r:id="rId63"/>
  </p:sldIdLst>
  <p:sldSz cx="9723438" cy="7559675"/>
  <p:notesSz cx="6897688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notesMaster" Target="notesMasters/notesMaster1.xml"/><Relationship Id="rId62" Type="http://schemas.openxmlformats.org/officeDocument/2006/relationships/slide" Target="slides/slide1.xml"/><Relationship Id="rId63" Type="http://schemas.openxmlformats.org/officeDocument/2006/relationships/slide" Target="slides/slide2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"/>
          <p:cNvSpPr/>
          <p:nvPr/>
        </p:nvSpPr>
        <p:spPr>
          <a:xfrm>
            <a:off x="0" y="0"/>
            <a:ext cx="6897600" cy="1003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0" name="PlaceHolder 1"/>
          <p:cNvSpPr>
            <a:spLocks noGrp="1"/>
          </p:cNvSpPr>
          <p:nvPr>
            <p:ph type="sldImg"/>
          </p:nvPr>
        </p:nvSpPr>
        <p:spPr>
          <a:xfrm>
            <a:off x="603360" y="1023480"/>
            <a:ext cx="5673600" cy="4411800"/>
          </a:xfrm>
          <a:prstGeom prst="rect">
            <a:avLst/>
          </a:prstGeom>
          <a:noFill/>
          <a:ln w="12600">
            <a:solidFill>
              <a:srgbClr val="d9caa7"/>
            </a:solidFill>
            <a:miter/>
          </a:ln>
        </p:spPr>
        <p:txBody>
          <a:bodyPr lIns="89280" rIns="89280" tIns="44640" bIns="4464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move the slide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grpSp>
        <p:nvGrpSpPr>
          <p:cNvPr id="2501" name="Group 87"/>
          <p:cNvGrpSpPr/>
          <p:nvPr/>
        </p:nvGrpSpPr>
        <p:grpSpPr>
          <a:xfrm>
            <a:off x="628560" y="6035760"/>
            <a:ext cx="5626080" cy="3686040"/>
            <a:chOff x="628560" y="6035760"/>
            <a:chExt cx="5626080" cy="3686040"/>
          </a:xfrm>
        </p:grpSpPr>
        <p:sp>
          <p:nvSpPr>
            <p:cNvPr id="2502" name=""/>
            <p:cNvSpPr/>
            <p:nvPr/>
          </p:nvSpPr>
          <p:spPr>
            <a:xfrm>
              <a:off x="628560" y="6035760"/>
              <a:ext cx="562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680" bIns="49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628560" y="6404040"/>
              <a:ext cx="562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680" bIns="49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628560" y="6772320"/>
              <a:ext cx="5626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680" bIns="49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628560" y="7142040"/>
              <a:ext cx="562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680" bIns="49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628560" y="7510320"/>
              <a:ext cx="562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680" bIns="49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628560" y="7878600"/>
              <a:ext cx="562608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680" bIns="49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628560" y="8247240"/>
              <a:ext cx="562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680" bIns="49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628560" y="8615520"/>
              <a:ext cx="5626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680" bIns="49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628560" y="8985240"/>
              <a:ext cx="562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680" bIns="49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628560" y="9353520"/>
              <a:ext cx="562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680" bIns="49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628560" y="6404040"/>
              <a:ext cx="5626080" cy="0"/>
            </a:xfrm>
            <a:prstGeom prst="line">
              <a:avLst/>
            </a:prstGeom>
            <a:ln w="12600">
              <a:solidFill>
                <a:srgbClr val="f3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628560" y="6772320"/>
              <a:ext cx="5626080" cy="0"/>
            </a:xfrm>
            <a:prstGeom prst="line">
              <a:avLst/>
            </a:prstGeom>
            <a:ln w="12600">
              <a:solidFill>
                <a:srgbClr val="f3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628560" y="7142040"/>
              <a:ext cx="5626080" cy="0"/>
            </a:xfrm>
            <a:prstGeom prst="line">
              <a:avLst/>
            </a:prstGeom>
            <a:ln w="12600">
              <a:solidFill>
                <a:srgbClr val="f3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628560" y="7510320"/>
              <a:ext cx="5626080" cy="0"/>
            </a:xfrm>
            <a:prstGeom prst="line">
              <a:avLst/>
            </a:prstGeom>
            <a:ln w="12600">
              <a:solidFill>
                <a:srgbClr val="f3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628560" y="7878600"/>
              <a:ext cx="5626080" cy="0"/>
            </a:xfrm>
            <a:prstGeom prst="line">
              <a:avLst/>
            </a:prstGeom>
            <a:ln w="12600">
              <a:solidFill>
                <a:srgbClr val="f3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628560" y="8247240"/>
              <a:ext cx="5626080" cy="0"/>
            </a:xfrm>
            <a:prstGeom prst="line">
              <a:avLst/>
            </a:prstGeom>
            <a:ln w="12600">
              <a:solidFill>
                <a:srgbClr val="f3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628560" y="8615520"/>
              <a:ext cx="5626080" cy="0"/>
            </a:xfrm>
            <a:prstGeom prst="line">
              <a:avLst/>
            </a:prstGeom>
            <a:ln w="12600">
              <a:solidFill>
                <a:srgbClr val="f3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28560" y="8985240"/>
              <a:ext cx="5626080" cy="0"/>
            </a:xfrm>
            <a:prstGeom prst="line">
              <a:avLst/>
            </a:prstGeom>
            <a:ln w="12600">
              <a:solidFill>
                <a:srgbClr val="f3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28560" y="9353520"/>
              <a:ext cx="5626080" cy="0"/>
            </a:xfrm>
            <a:prstGeom prst="line">
              <a:avLst/>
            </a:prstGeom>
            <a:ln w="12600">
              <a:solidFill>
                <a:srgbClr val="f3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21" name="PlaceHolder 2"/>
          <p:cNvSpPr>
            <a:spLocks noGrp="1"/>
          </p:cNvSpPr>
          <p:nvPr>
            <p:ph type="body"/>
          </p:nvPr>
        </p:nvSpPr>
        <p:spPr>
          <a:xfrm>
            <a:off x="689760" y="4765680"/>
            <a:ext cx="5517720" cy="45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sldImg"/>
          </p:nvPr>
        </p:nvSpPr>
        <p:spPr>
          <a:xfrm>
            <a:off x="603360" y="1023840"/>
            <a:ext cx="5673600" cy="4411800"/>
          </a:xfrm>
          <a:prstGeom prst="rect">
            <a:avLst/>
          </a:prstGeom>
          <a:ln w="0">
            <a:noFill/>
          </a:ln>
        </p:spPr>
      </p:sp>
      <p:sp>
        <p:nvSpPr>
          <p:cNvPr id="2578" name="PlaceHolder 2"/>
          <p:cNvSpPr>
            <a:spLocks noGrp="1"/>
          </p:cNvSpPr>
          <p:nvPr>
            <p:ph type="body"/>
          </p:nvPr>
        </p:nvSpPr>
        <p:spPr>
          <a:xfrm>
            <a:off x="689040" y="4763880"/>
            <a:ext cx="5518080" cy="451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9" name="Espace réservé de l'en-tête 3"/>
          <p:cNvSpPr/>
          <p:nvPr/>
        </p:nvSpPr>
        <p:spPr>
          <a:xfrm>
            <a:off x="0" y="0"/>
            <a:ext cx="29876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 Black"/>
              </a:rPr>
              <a:t>Titre du stage ou lot de transparent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0" name="Espace réservé du numéro de diapositive 4"/>
          <p:cNvSpPr/>
          <p:nvPr/>
        </p:nvSpPr>
        <p:spPr>
          <a:xfrm>
            <a:off x="3906720" y="9528120"/>
            <a:ext cx="298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5E4F-A262-4B75-BFC4-B4DB2C071EFE}" type="slidenum">
              <a:rPr b="0" lang="fr-FR" sz="19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sldImg"/>
          </p:nvPr>
        </p:nvSpPr>
        <p:spPr>
          <a:xfrm>
            <a:off x="603360" y="1023840"/>
            <a:ext cx="5673600" cy="4411800"/>
          </a:xfrm>
          <a:prstGeom prst="rect">
            <a:avLst/>
          </a:prstGeom>
          <a:ln w="0">
            <a:noFill/>
          </a:ln>
        </p:spPr>
      </p:sp>
      <p:sp>
        <p:nvSpPr>
          <p:cNvPr id="2582" name="PlaceHolder 2"/>
          <p:cNvSpPr>
            <a:spLocks noGrp="1"/>
          </p:cNvSpPr>
          <p:nvPr>
            <p:ph type="body"/>
          </p:nvPr>
        </p:nvSpPr>
        <p:spPr>
          <a:xfrm>
            <a:off x="689040" y="4763880"/>
            <a:ext cx="5518080" cy="451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Tahoma"/>
              </a:rPr>
              <a:t>Le </a:t>
            </a:r>
            <a:r>
              <a:rPr b="0" i="1" lang="fr-FR" sz="1100" spc="-1" strike="noStrike">
                <a:solidFill>
                  <a:srgbClr val="000000"/>
                </a:solidFill>
                <a:latin typeface="Tahoma"/>
              </a:rPr>
              <a:t>blog seeding</a:t>
            </a:r>
            <a:r>
              <a:rPr b="0" lang="fr-FR" sz="1100" spc="-1" strike="noStrike">
                <a:solidFill>
                  <a:srgbClr val="000000"/>
                </a:solidFill>
                <a:latin typeface="Tahoma"/>
              </a:rPr>
              <a:t> consiste à envoyer en avant première aux blogueurs sélectionnés un produit.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3" name="Espace réservé du numéro de diapositive 3"/>
          <p:cNvSpPr/>
          <p:nvPr/>
        </p:nvSpPr>
        <p:spPr>
          <a:xfrm>
            <a:off x="3906720" y="9528120"/>
            <a:ext cx="298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D4F8-890C-4F46-AB2B-AC26C28468B9}" type="slidenum">
              <a:rPr b="0" lang="fr-FR" sz="1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68D70-F753-454A-9215-91B823C77C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B4988-20B9-42DA-9C87-F7EAF7E9B77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3A8601-2795-4B77-8565-DAB49999857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F0F242-0689-4497-9A0A-6A12E781509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1D1311-7CC0-4569-830E-05484598E65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833D37-E920-45EA-B5E8-39A3F3F01FC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A5B88F-CF74-49F0-8DCB-D08472771F1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F5F24C-C8B6-479F-8039-5F57C28CD98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3394D5-821B-4154-B766-DD52EC64EC9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EA1E33-6043-4BE4-A5FE-FA026162AE9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BD5D3B-8278-44D0-ABC9-59D78C1116F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170053-C880-4573-AFA5-C9147F41CB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77A4E-E613-4D41-864C-92CB1069192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C9597E-2A77-4AA9-95F9-21D7E6833E2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21F5AB-9E57-43A3-8CD0-598B68ECB21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1C8CB0-824E-4654-8632-30A0949EB82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FEED1C-E806-4822-90E1-0E23CF7097E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130BA1-D851-4219-AB2D-9ED63BBBCAB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6B6219-49D2-4337-A41C-D847BBE41E2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9893E5-15D7-475E-8629-A38EB84F59E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9EDC4D-B2BE-43AE-B137-59D1E3C8142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B3D11D-9A65-404E-9DE1-94CF3FB72F1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54BBC0-8235-424C-83C6-E928C27337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CB4ED-5BD5-4A1C-922E-BAFC76549A2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8EE49A-0E0B-40FA-9CB3-C6A34576F5D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F26A3-E65E-422E-A0E6-1B3F11BE1D6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2EEC4-96B0-4B9E-93B7-D1783255FCC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5F014-3945-4424-AB0A-B8A43C410C0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F3C93-AF2F-4F04-A6A7-A9F75D08386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F09E3-C994-4829-9FAA-F4B3548FC1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C2D90-CD87-49AA-ADED-99C1CB13DE3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04AAC-5983-4FE9-867C-BAE99D87044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4EF5E-70E0-4D36-9D80-0251E0221F8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F1235-45C6-413E-BFBB-EB23912C517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4E122-2A2F-40A0-A182-17B34BA1058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94D33-9496-40CB-AD2A-59598804101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D3AFC-C074-4345-A7F2-F0431A1796E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20943B-3BAD-46EC-844F-D72E481DBF9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A2659C-F742-4FFD-B2A2-00480DE2874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9F2CC3-949D-4A39-B1F9-9241F4E127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BC130C-17E0-4544-8C26-432C5E1ECFB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6283B0-4434-43CE-A880-A67239BABBC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CAB277-5AD4-4262-8C47-9173D40BD6B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F60ACB-B05A-47B9-8A06-26D7800E955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C99A59-777B-42B5-96A9-BE3F65C1FD2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18C995-09FA-4657-A4BC-6699990306F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9425C0-FE1B-41EE-8A22-0B6AFA505EB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5380A2-BA55-4500-A05F-AD693E4CF48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F912F3-FE6A-428B-8E9E-4B8A741EEA8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D0A083-6905-4D02-8E81-71160214CB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D94AD0-B67F-48BB-8B14-BACA18AF373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0D1C65-E2C5-4F6A-8C36-87875DDB0D5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313D69-025D-487F-BCBA-EDBECE0442D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71A70F-EC9E-4F42-8FD6-7CBBA2A0D9F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9996F8-CBCC-4FBF-A362-9B36874405F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39D34C-A768-49E0-BE71-AB56FBC973B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088700-B051-40D1-A124-8C35588109B5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CA78C2-7F73-4592-9A65-82F7B7FB47F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489761-4310-4A7C-9527-88B3AD55404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96A615-586A-4550-9BF0-505603D48E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B985F2-3EB0-482D-A034-725C2910680B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2EF2D-92E0-45A2-A61D-1FCFA94E48B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A0A7A-5483-40A2-91B7-3D38142821A1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BF984-7EE6-41EE-BC6E-4D1CFB33CA46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5C6E3-D39C-4591-B689-07151B1FA31F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49011-ACFD-4F26-A7C1-A5AA13C6F8A9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286C0-97D4-464B-AB6F-EBD2B8F6B05C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6EC02-614D-4747-B8C8-0A448A247E7F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3E1A1-82B5-4BCF-AC1E-0B9D32980AEC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5DC9F-976C-4071-9BAB-8AE1C25D5B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18B1D-52A3-496E-8645-87F1BBF8FCC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6D350-467D-4694-9BCD-2204030841B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30748-2969-4D93-A582-7F9ED2A6EAE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DE3695-CF04-42A0-8FD1-F70C8A233EE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B1FCEF-FF02-46A2-BA35-050B4C872DBE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7D46D8-6E21-4A17-82FB-5B931B842F34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2F4D3B-2C7F-4C87-8EAA-D6DFC777652A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00576C-158B-4FBD-A8E6-A5BCD8E723FE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EE0263-D018-43A0-AED3-37A19FCACB8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B440EE-DFB6-4B79-B238-5EAA5F0066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01090-8C69-4779-B243-406535B06F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4BF908-66CF-4F52-84CC-1C9A34AFB90C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AABCFE-75AC-4866-B91D-BC8D14875446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3310F6-85B3-48E2-BD6D-B519AFBF3CF6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D70B7A-54BF-4D0C-966F-56448D8FBEE1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63A010-3A56-43A5-B97E-71CDC2A53851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C5CF32-C1F1-4B7C-99D1-4ED42E5D7717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0432DC-795D-45EF-891B-FB05AE792676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A8A670-EFC1-46FD-B0CB-3E79D160B67B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8C4914-484D-4DEF-811B-82CB5A055530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A6C76F-AE1F-42C0-9E9B-F1062A5A8C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6F2F66-D708-4A00-B7AD-DA05426D9813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C78FE4-3A9C-4C47-AFDD-E52966659A63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1101A9-97F5-4FC9-B3C6-0C570D43ED8F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F1D1B1-6646-4F48-9C61-4B1FD051672D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38CD4F-6EB2-468A-9BBF-DABDD51B46E4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4D7D43-36D4-4A0E-AED4-B09BFB2E5FE8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0459CA-FFA2-465F-9331-74732205B445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5093A-D1DE-42B2-9D56-D84B2C101D39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59DE7F-E586-4496-AF33-728CAF443B46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4874B1-61EE-412D-B936-A66D0B4299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9866C-2AAD-4C24-8B4A-F11DC48999DE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A94542-7327-4870-B437-07DC7CB2DA42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1ABB5-DBEB-4A96-9437-71F0928AD0D7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0ED15-C083-4DD7-858E-9E6C14953BE8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F9EE0E-542F-42FA-816E-8074255276F3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4446B-DA8F-40B3-9C5E-A1BD5460DAF8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CC7ED-4E40-4E30-91D0-0479C324A036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B7F99-6F2D-45A6-BF5F-8B12DEFD99CE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C58CB-BE05-44A2-9A22-DECFAFF4FF70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A32AE6-22A0-4A2D-B392-A686F4D2DD5C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FE31E7-D00F-42FC-85E6-CBB8993FC49A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245B70-56DE-4B79-AFF5-81C4B80C9DEB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778275-7157-46D4-A9EB-07187670B5E2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120532-26DF-4C06-8EDC-B644E8507196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980CD5-A414-4EE1-AE2D-79CB6BE3F7A1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06D9C2-1339-44DB-8C9C-A099262708C5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A51240-E13F-47F3-8372-2DB21D9857CF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D12A89-5AD4-44AD-95F5-8DD164D3FA2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85E2-FE33-4775-991F-00E989E55FE4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3B3ED1-1788-428C-8F07-3D984B6FA0CC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636D51-F583-496D-950B-AE7465151B14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224314-10AE-4E50-A33D-A0604ADE973C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0822526-2697-44CB-B3F7-673443E13390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E74D0F0-2140-4517-8DB6-A071B481C45A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34CA03C-A042-4B09-88E8-D8C9E3425125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C75B2AB-BD13-4890-B7FF-13644D7D21D5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9FD642A-F0CB-47FE-A9C3-1009EAF72EFC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8815A9D-DF59-45BF-B79C-2CD7DF0A1FE1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7337017-1DDB-4B4D-86BE-01C265214B3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3F74-D182-4F21-943D-4C21FE3CCAD6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EE2699F-95FF-44F3-8755-96284CDEBF3C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0E2887C-9063-4A82-8803-F061A4D2BE21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F0785D3-327D-4085-BA2C-82FCAE5B2E1E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C2A28E3-FA20-4837-83A8-EED93E9CDCB8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E8F1838-85A0-4C80-BF2C-30F133101E57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F8822-740E-4AE0-9B29-08A071B11176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14516-4032-4B6A-AE97-D7779C9E2AF2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8A4A5-02EA-4D2A-AE98-EE38EC3E8688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2E8F6-92DD-424C-86E1-315950A18289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E6E7C-95EA-4D31-96A8-21C5F51F95D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3CF3-5A26-4F53-B696-FD0F621DA79F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0481B-EF15-4EA5-80CF-F716863606BB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AA0390-B42C-4D81-8270-D53BB3989548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67D85-6836-449D-B4EF-205A11F49942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C9CAF-972D-4A16-938A-0F62E47D18EE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BC1B9-D2BB-4510-AA1A-670547856C41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FD129-A9A0-451F-8071-79C664EB9049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5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6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EE29D-0A5E-415F-BC8D-123DB9BB527A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A7DEAA5-5365-438D-9769-F3DB5452CE3F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8A71D39-4136-4EA1-9D69-DE7D3182CF08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33FECE9-8373-45B7-8FB4-2A9EB598505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6822-3A0F-4392-86B4-1545C09B9678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F1AF92E-7219-45C8-8AEC-48D60017319F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24A9BD8-9624-4747-80D1-A6D996FE0CC9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1B3315E-2E20-4AC4-BD23-664DAFD3C472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1BF3984-A660-4BAC-9639-9F847C144C1C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ECA84B0-11F0-4976-B423-8BEBE520878C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C861E17-63CF-46A4-9E73-9E712FE7DDB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2D46F47-D7C4-4FE7-B3DB-5E3AC046800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5F97044-10C2-418C-AFB4-4A7D17B3F5AA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8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9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A44AE9D-4685-44CE-A1DB-AFD9912D9F64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861C752-D347-42F6-916C-87DBBCB4AAE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A740-99FC-460F-ABED-396268BFBA1F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6C1CF80-FF05-4D67-90D5-8EA8DD316175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562A20F-65BE-446E-901C-1A31D49E0802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37ED3F2-E409-4A64-BD66-CBAC3A26D917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4C5849A-2DB4-41BA-9B8D-E826AE81C8A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2B99E9C-0BE9-4EBF-BF1E-C97326CED071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272AFDE-3B62-42F1-B44B-B3A095F85506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DFB6645-C291-4296-B184-81D865DE8997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7FC5660-27EC-4241-B815-5E69245B7851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A048540-931E-4EFF-B12D-BFF8130FBAE5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A6C2A30-4600-451C-9D99-2365D40348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D37CB-EE53-435A-ACBA-8AE50F5FF16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B277-E573-4652-93C6-A84419AD537C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1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2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42A1562-9EEA-461A-BB9C-CB10E8D03693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51B683-FE71-4DA2-A9A7-DBA5853A1147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5B3734-D59A-46CF-96AB-7384EB5EDD88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774AA6-A890-4BFA-86D6-1F4B149EDEDB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F5B587-A812-4BA4-965B-FA58770614FE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DC4DD3-0F40-4D92-B23F-EBF161569247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702E1F-A0D0-46A2-9EB3-508B9E0FA678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ACADE0-B1AE-4DAA-BBFC-331C983383E2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EF2F04-2502-49E8-9F9C-8DA4BB0AF0CE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659AA4-6A6B-421E-94CB-1083D601F03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88C5-97BD-4D56-9B0D-D6189D2D4E65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7D6811-6C0D-412A-A1C9-7B04B6430190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C80BC2-AB76-49B8-858D-6C7A766152A1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4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5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35A84F-C57D-4883-95C1-E4AFD8DB638C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A94C5F7-25E3-4EE3-9B50-D10ADBA810D0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8430FCD-5E0F-4B20-8224-E20275D79B17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C5674E1-ABC2-487A-B0E7-C41F6730CA0B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69A11D2-7AB8-45AB-B385-C934BFC464A6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4F2947F-B021-4384-B053-655547BD709F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C1182E5-9FC6-4711-B4AE-23241FA41D3B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0F7FDC4-EB65-4F17-9077-5B696990D9C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BB4E-B0A6-44D8-879E-4855103C85C2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1670087-E31D-454C-BA66-06933C2BE8F6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DEF3B3A-47B1-4327-AEE3-2E53827F31BC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4F21D43-C2B4-46ED-B0A3-18F370385E04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B83B6CC-D24C-4A74-A47A-F936A6D94452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7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8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37BC93A-0401-463C-9F77-7304D5942B4C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7BE6-84F6-4E59-8C91-4925221A79CE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6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7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685D37E-E999-40FA-9B7B-F99223F569E6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D09FB34-4FD6-47FE-877B-C0E0662553CF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1506351-326E-4831-BDAC-8F9DFFB0368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F88C-138F-4BCF-B074-9E8577CFAD05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5DE2AA8-49A7-49F4-AE32-6C40FE17F9E3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AEFAE0E-4B6F-4E58-8EFF-184C677A0DE4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0F87E6C-182A-4BA1-90DC-739D1AE4047F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5BDC083-1E20-4F2F-99E4-DABB7207C8A8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4FA9831-878C-47E7-88A6-4F46588D040D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CC17639-78BE-4D3B-A3A3-685309B7AC26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FFBB4C8-A420-4889-B415-27B1C045EFCB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3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CBB9DE0-4444-402E-ACEC-3E7BB7E6CBDE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9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0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BACE257-8B80-4841-954A-BE8B71A63E40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B8E857-C30E-437C-90B1-CF2CF1615D8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8FD5-FFA5-4FDA-A899-3755293CEA4E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D77EB4-D2A0-43EA-9076-0D7E54EAF3B4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97A3B4-24AC-464F-BD44-A46A6FB95838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545A8C-48D1-4608-83A7-49C6FAB86645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4CD6AE-4A05-4720-A84B-06022B571133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03359E-F681-437B-9B76-2EB3CBA6A9BD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745126-4D70-4F8C-981F-F5A5C33128A5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EDD2BE-92AB-4D78-A8AE-407BFF44F55E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A7EF65-35B7-43F5-B34F-C459FC9135C3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8886DE-B693-4C13-8B13-AF740F79072F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0F8A43-B979-4EE0-8BF5-B94D138F58C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3623-0EF4-4CE2-A45C-9D180AF7D991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2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3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62C1E2-B8D7-48D0-8813-AB47DDD8D0F9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14E4583-9960-42A2-88DC-DC88C4D2A72A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06F1CC6-9E22-4C0C-A4A7-B20AF6C0826D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3263194-8F56-4021-8765-E425EEF9BE50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9C977AA-EB4D-4400-A071-404131700615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23D2492-EA3F-49EA-9A8A-36F2AF7FAE8A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4960DB7-946B-4306-8273-34162C7301B7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9EB2FC0-17A0-437D-84E0-793377D3A7EC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7B30337-922F-4CFE-AE2C-AFA61DF974EF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F9873E2-CC35-40D1-8C5D-B902AD93143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029E936-BEF8-4E6C-9AC4-23B72000E595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1871EFA-5CDA-4061-A1E8-4AFEF6F1DFF7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5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6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6531F70-AF2D-421E-8F05-11E1AD078AE1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07A5F89-5B23-45B8-9252-7AC1C6317E93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9418237-E640-4806-9B9B-65BEF790F33D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0F51700-D3AB-4089-BACA-6C22FE8B6E75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DE3BD0F-084D-41C5-9506-F9B4AEC0DE57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1719BDF-EF8D-490C-8AB3-9D9BD229CCAA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8F3D6BE-CCDA-4707-9AE7-73DD5819215A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DFF8DEE-B239-42AF-B0F1-0066E760179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0F59E42-AE85-4EBD-8E89-408C753C15EE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E0F0C81-E660-4237-8B36-7E974FD362BF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A295EB9-9614-40AB-AAF8-2C45E914F213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FC29C4C-AC84-4B2D-A6FB-D55EA4B5BB62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8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9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020BCFE-4BD2-4110-BDCB-06899694AFD8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9835F4-566B-4D93-BE3E-DFF7FB658ED4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30E687-C1CA-48E9-8F2E-9723FCF322E0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0D22C2-4358-48AC-8B51-C7DEDE0CAFCC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946279-6E63-41F2-8D1C-9F7C5C7B5B8A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5D90E8-1E8C-4862-AFC9-0CD41C46774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FD9485-510A-4051-AB46-D449AB89EC01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55FD02-580F-4ABF-B46A-B1D9941D146F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89D04F-7728-4B10-847C-87145DB04815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362B3B-45EE-4DF7-B11F-12C8257259E2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C43F97-FF3C-4B90-A8E7-EFEEBD63E18C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F34D73-EF84-49BA-B88D-C9A8A6AA37AC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1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2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ED3734-FE74-48C5-9F60-7B31249A47B2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314232D-69CD-474C-9925-758B64EDA6CC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E5D2057-A92F-4835-991C-226397C15E84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B1FAF62-26B7-4E61-A486-553A3CC94E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1AE77-918B-431D-894B-5844A866B10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BEB7588-A6D3-4304-A01B-1500FB2AFC37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F36DD3B-D14E-406C-B889-CC76A0AEEFCD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A3A5CF4-3FA1-4DF0-9D2E-CE92BE25C5DD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926092F-6451-4AA2-B41B-72EB3169AF21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1C76304-F47D-4FB5-AD36-55BF10BBC741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515A62D-ABFC-4CE1-B1D2-0D8492C4C071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B5D48C3-F385-4325-BF9B-2374C1892844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D838A9D-D081-4FDF-A4A8-3B2D8837FD86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3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4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2A57F3B-5917-4292-ABCA-532AF2323CB4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7B5A05D-E118-45B1-BF6E-4950C0C653F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C99291B-7D7A-4239-B8EF-C29B0E492FB8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F121303-BF76-4D5A-B60D-BAE3D71312B6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C5AB222-C6AF-4BE7-B806-A44E1BFB8C75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874E29F-F1FB-47C7-886F-0B9E6FD85A56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F4C8AAD-080C-4C3B-8215-67CD53100C9C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AE87CA0-1378-411A-BCFB-B44EB3366263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756F294-F3F6-4A1F-ABC4-674284753D5A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622AE71-9814-4786-8C69-F9723F6EBF18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8A4DF23-54E9-4575-BA55-104B7FAD8212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2CDC0AF-5AA3-4AE7-9101-2E7F406AC5D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7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8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746ACA5-6A09-48E1-8077-F31F11C443FD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6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7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00AB93-A373-4BEB-AAF1-B2ED244EF807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DEFA2E-034D-4CCA-805B-DF36AACA44F6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2FEF94-116C-4A60-A69B-FD3A979B0C17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1A76E2-1CB3-4813-8734-EFC4F594C375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774FBE-7526-4C80-B53C-E2AD1411E540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D99856-7ED7-4B74-93EC-D1AA17C3DF5C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AF3E6E-E48F-4530-B19D-293BC53D0C6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2385E6-7650-40CF-877C-EB7A12D62597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DD47AF-083E-4D72-8F1A-786293AC714A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B0470F-3BF1-4B30-9C35-7A1E91442282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F322D8-FE9E-4C51-922A-2E6CB328D74E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8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9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0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578C30-2055-41B9-B12D-090751D58A4C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87B6F65-F532-48B0-9A67-60A1309D36ED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977841E-F3AD-4604-9203-FF693B1C9CD6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A317D42-124E-4984-A788-32C19EF92FF0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6BACCE5-5524-4541-A732-7BF4092CBA49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F383513-6379-4223-B2B6-8240A88BFA3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4960C1B-5546-48CC-9C5A-731F0B56E31E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CDD2F68-6D07-41FF-B46B-919F8C666376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ECA9665-1564-40CC-9662-5D89593D4B71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D2ACE2B-B48A-431F-B7F6-F19BB720AFC9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5D897B1-236D-472F-B82E-C38D0E1D7187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5718167-D472-4E6C-8E41-C110870E94B4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1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2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3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67D5E1E-75D2-4EA4-AD05-0CCA69B902E6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C757F42-1DFF-4C9C-A129-F1199A837DDA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80BD027-20CF-49E5-B36B-7064E13AF956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D2002A7-7635-498E-A0AE-C3850FBF144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44EC0F0-95C8-440E-A410-42B80B2B6C0D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14D0B22-DCD5-4D6B-9CC9-B4CC8D84B1D8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DE5DB26-4BE9-4E20-A39C-D8AB792E2BAF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3B3092E-FA04-45E1-8E85-07134D6E5E84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9E7717B-E7B8-4963-91A1-59A16766D28B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D5887F5-DBF4-4A05-BB8E-67396B1C86DC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DD6C719-7569-4DD4-8E72-4C56B5198832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D4DCD3C-D3A2-4D51-B155-C2BF22A74D9F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5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6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508BDB7-02FD-44C9-A46D-95CE3370813E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BEE16D-9CFE-43AA-AB24-9132F459A62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FE2D7F-6257-4A92-8BA2-A07A4AC5A698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5DAD9A-FEB5-42FD-BD04-79B78B6277FF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62733B-AFFC-4977-8E35-0BA692A58248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9A352A-42ED-4447-86A7-5FF6AA026063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75E5E7-266B-4C93-BE10-879756C54E60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9271F1-5AA5-4385-87E2-F2BFD6E5852C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2E08B6-975F-452A-83C1-27A6980F1D9D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B81723-6B08-452A-B4C1-5E754809C5AE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DA904C-2B9E-44E0-984B-D27C4B39FCFC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2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2CCEEF-73D3-47EB-A4CF-26AEE8D5F7E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6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7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8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9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0C3233-979D-4945-9B4E-E8192437D158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F947B27-D884-46CF-86AA-91CE988B38A8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ED3BC37-6355-4824-B851-E6AB378E7CF5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B8D5CCB-6605-41B6-A9DF-9F29EC6AB906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A55E943-4A1C-499F-AD14-FF72D4251139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0D581E1-F580-4888-B163-EAE4707AE36B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336CC86-D575-4C09-972C-5297158302C3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1D4FBEA-5495-4401-A5C9-6C565ED789F2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A6AA2C6-8D01-4C5E-8741-23CA93F44B27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556EB30-FA8C-44F3-9248-F044DB9804E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CA236-123F-4B5F-9CBA-A18FF9EB10B8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1436BE4-AB0D-4AA3-988B-81F05B7236D8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5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4240726-0524-42A0-A034-3800C10BFD86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9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0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1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2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657B880-1BC2-4457-9378-5624D6FCFEDE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C276B39-77BB-4E88-9951-C949D036CAAB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C2F15FF-7C1E-425A-AF79-5A7BBF8FF5C1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62088A5-B8C2-44BA-875E-99F4DC093566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1F2B28B-FD66-4F13-8510-ACB48131A333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03A082B-4855-4B9C-A93B-07665FDD2D4B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7BB913B-EF2A-4E23-8E32-7D72E1AFA5FE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83883ED-65D7-4FCF-99CA-DDE3ACB8C3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38CF3-19CE-46F0-8A6C-1BFE31EFA83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4C736-16A6-41CF-8EE2-5354F4B4017A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10EB107-D70D-4E09-9EFD-923B18BC14A4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1E768C9-D5B2-4CD0-90A9-F5738682AF6C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C5C05FA-CA0A-4A9B-A27F-3DACE8C613F8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8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B49D9F1-6123-443A-813F-0F1057480C3E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4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5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E622A88-0406-4737-9B75-445219FC6B23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ABAA7F-FF70-4BBE-826A-DD012E661258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A20AA1-6E63-41C8-A7EF-741B4C5CCD9F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1B7BA3-3609-4C86-BF91-DC57B7F4283E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8564FD-019A-4191-A842-BBAD7171B993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75C120-B1F5-49B6-9CAE-7EE2E7FC218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66E71-657E-4EA1-9609-E63F193B9A40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31A209-EF21-4992-82F9-8049659CCD58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DE7B75-C848-45F5-9875-0E652BF4551D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9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B78538-5C10-44DE-B48D-590A107E1798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463125-B557-458F-8841-131BD9D37F33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F1058B-CE41-4809-AFA4-28244B6691A0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1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1B7F82-97CB-43D3-BE18-92D8A8D8EEA2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6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7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8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C79D8B-010E-4067-80F4-59C27B980C79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0948E-0461-430F-B7F3-3C53F1FF1AC5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0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4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5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6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7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02CEE81-A5EE-43B3-962C-52C6F468154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297FA-A63D-4390-B2E4-CF94CA96D1DB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F9BF527-3D75-4E61-95F6-03980A6A5B8F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ACA26E1-074C-4D61-A55B-B0FFC912C054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DAD163A-9E79-413A-9B57-8664AA721998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A1F37F2-D577-4211-A6F9-D5D51DFFF41C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9D70CE4-946C-4D6A-8520-B4683173AAFF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166E4CC-9069-49A4-90CF-7C85800ABD30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6E071CA-4CE7-4A48-8283-99D39F0C1F51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249F73A-6AFA-42EC-8DA1-7CB1CDDD992D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612AFFD-E10E-4BFA-B036-35EF4A516F8A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3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15866F0-6D74-4E12-9FE0-992E91BB937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92589-233A-4207-8069-7E74A6A4756F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7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8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9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0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4B25502-E2A2-4B03-BC2F-59E05A140CF3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804FD9B-8393-4ABA-BAAF-3EAC626F5B64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D56DD2B-41FD-4CB1-913A-CD6DB94491B0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18CD374-0679-4BA5-8D91-329E0A42C3AF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FF871A5-8AC2-487B-A7CD-9F3BC01DE835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5E32439-C035-4E9A-8DC3-B267F81F002D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3989805-4FB9-4D96-B7F8-3C15BC7269FF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36734EF-7C91-4CD2-8839-2F24EF1EFA12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A4266FF-522E-405F-B85A-A003C60DBC79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F34889A-25B8-424C-9AAE-D302E0D6344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84D5B4-BAE0-45F9-9AA7-9D58B21CBB1F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DC7958C-F6A6-490A-A8E2-54BD2B5F5B5C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6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5F555CE-49E0-4365-8CE9-BAC8A21098EB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0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1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2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3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457D0C7-F6A2-41EB-906A-4F08D2F4F811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1BC59E9-AEB4-4C8E-8008-3F3312AEC9F2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8F3F769-3C5C-4F24-B7EE-890661853531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579C4D6-F0BC-4A73-B169-40603A94E144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4B98C4-A285-426F-B09D-192F390786F7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334B84D-420F-42F3-9EA5-A9972E0FB621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F42CC38-DFD6-470F-9E37-14CD2E5305AF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D0E6C55-EB20-457C-8526-4054768F0DB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AD448-94C1-49FE-BF55-AF9A42BED13A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1CA7230-DAD5-4272-BCDF-CA91CCEDD891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282D725-0E2B-42FD-B2E0-A5C7D67963C9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1311C20-025B-47B3-9C58-A5D824B8F32E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9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116C329-F8F3-4E47-81D9-E28683E6E118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4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5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6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25B9ED-1D8F-4D83-96F0-BFDE4B2F3D66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22B5210-92DE-46C5-B7BF-369954DC99F6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82169E8-35F0-4304-9FBE-42AB6647BB9D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C29CEA1-AC28-4B2B-A153-223916B19629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E2DB08A-1E61-4E61-9F4A-6777B4F059BA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BD75EFB-3685-4A84-A802-E81E9DCA2B8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5C48A-54A6-42F6-92E2-52D67DA6F577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F1C9613-F257-47AF-9E5E-895B2D4969A4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6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EC215F0-0930-458D-90F2-7CE8A0056B89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0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CE5CB75-FA4F-44C5-9F76-38F404DA3CA4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F25448B-E767-4C71-BAAA-0884032E96B1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ADB6226-E8B7-446B-83BE-6CFEDF8A2994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2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056CA42-D360-40A8-9C63-1DFFFE073D27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7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8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9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50B0303-FA16-45D8-85CD-922B653E16D1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E25CBCA-80DE-4E58-B02E-D7F8129F3FF3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778E11E-0561-48D9-BDEF-2EE023260796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3DC0C17-D10F-4660-832D-63E8A6D046D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2B74A-ED57-43CE-87F6-643221D6BBDB}" type="slidenum">
              <a:t>&lt;#&gt;</a:t>
            </a:fld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8CC6681-351D-4A71-9D45-DAA7F105E56C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8678043-4F58-4C4D-9785-419B377D711F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6ED4750-EC43-4232-8CD7-BBEA7DF086D2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1E33B8E-8FC2-4435-A827-29D5257F6780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1BDCA37-D292-44A6-91FC-8471A9435867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849AD2C-CE78-4FE2-8FF9-167C5A085D62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018131A-7499-4D84-AA1C-979E05E0DC2E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5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063B0B6-09A8-4942-B74D-716AC528ABDD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9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0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1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2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AD880CB-F388-4283-A206-57F87275AF61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FC66F53-AA04-43CE-BCE6-F74C6059C50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8DF14-E106-4A2C-BB53-8C541772B13D}" type="slidenum">
              <a:t>&lt;#&gt;</a:t>
            </a:fld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BF1983-6CFA-4BC7-971A-B867510756FC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840E84A-84D4-4691-A59B-DBDE59A7DB82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FF8A8E-50AA-4959-9032-BE534E753796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8E1450B-B362-48C5-B562-E97273721A14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730CECD-0A1D-40B1-9A5C-54314E752E46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D32B32E-0844-4074-BBEA-779118EE6D62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6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ACA8B7D-7DD6-4937-AE47-BB5B6F8980A0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81E42D7-C766-49D1-83AC-F579AC19893F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2AA1895-D212-453C-89C2-1EB21CA051CF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8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1B97381-1753-4707-8C9B-7242CF5E43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AC06D-EB3C-4355-982E-8B73FF962A4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89124-69C8-4268-BE35-667117B48B50}" type="slidenum">
              <a:t>&lt;#&gt;</a:t>
            </a:fld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3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4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5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696E09-28D6-4EB1-BBA2-8B83D5D23521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6330006-E39A-4C88-84AE-ED558B0A67B7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6244372-0CA9-41AF-9DCE-54E9E1D4FA60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3DF5BFD-8C81-4C8F-BCAD-FEAC1317D0E0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3EA22A1-2770-4DA4-92A4-CB74142D3B0A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7C178B8-976E-4368-A66A-DA69FBAB84FF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B319AF2-7A8F-43FF-B5A1-54704FD05EE7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7D6A145-C7DF-496E-A199-7835F7EDAA9F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86D13A4-5913-4C04-9FE2-499E1BC28F1A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8730FC8-C71C-49BB-B7D5-5F26FFDBE54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F96E10-CDA2-48E6-AAD4-496F7B6C587B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D69CBD3-254B-4D83-A4C8-CE0393BAA7EF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1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8CEB553-6D6D-4E35-B2D4-BE43C7DE2C72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4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5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6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7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8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5EE8270-61EC-4595-B0CC-E272878EB9D8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7F9B32-E91B-438E-97F8-5BC53F902C1E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0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5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6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7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F22912F4-BF7A-426F-A43A-FF3F3E363A50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5217BED9-3906-41FD-B65D-24D59B167559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77B56926-542D-43A3-846B-F94EA8D10534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BEEDB4D0-68C8-44EC-BA44-02164BD55B9E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FBC2BE74-B188-4F10-A0FE-7D047A6FA2D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E9BCAE-81C4-4C54-A533-899317AE13B9}" type="slidenum">
              <a:t>&lt;#&gt;</a:t>
            </a:fld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B15EA907-C271-4344-B4C6-3E17CE112E2D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8D3F2A21-57EF-4D4A-BB96-AAF4519347C4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1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FFD4DF2C-FE24-4984-B745-1B082A1B658E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2F52CDB6-5B11-44C6-A64D-F6150CF66EA4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26CFDA18-9F1B-49EB-A631-E8D5608937F4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3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A06F1A69-339D-4FE5-933D-5835A65FF649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6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7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8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9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0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E21194AB-271D-4D72-B7CA-379C8313158A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69EAA11-9408-444C-9ECC-AFB08D40670B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002FE50-9B5B-46F9-B843-AF36224E911C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250E223-6304-4473-8A5A-4A6E7F02C38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4CE890-77EF-49FA-9D33-5EF64267588E}" type="slidenum">
              <a:t>&lt;#&gt;</a:t>
            </a:fld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FF85274-E064-4386-9BBC-B0C10E5139C4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EEE0A4A-B8E5-444F-8996-869C5D4CD5B7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21031AB-CC71-4D7B-A256-252589DC0FE7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6EDD749-ABD4-404E-BF1F-6ED5363A527F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4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A0EBEFA-6D13-461A-B6C4-5FF0FEE81370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91675B7-2820-4E26-ACE6-A957BB148C1A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4E72A13-DFEF-4D9F-A1B1-7FFDB94CE327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6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FF9A274-1615-4D6D-9DD2-4D9AD261A6A5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1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2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3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4C9AADE-5A5D-4BD8-8DC9-2A94A11F9BF7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95C94BA-C644-4537-92AF-6232A470EE6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2AA752-30CF-4C76-A93B-4B5A9D47CC73}" type="slidenum">
              <a:t>&lt;#&gt;</a:t>
            </a:fld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0F4AED2C-87E8-4189-8C69-56FE2F4AD4B4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CE1C90BD-93E2-4C12-AA12-49CF036DAF47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A1CCEB40-3062-4105-8742-B7F1355FF0B3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2ADA2050-FB64-46CF-959E-97B1FEE069A9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471361CB-136A-4A3E-9AD2-AF9A1B06C66A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7AA720A5-A059-4D84-9BB8-AB4EFF76AC49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0915FA19-1186-4AB7-B342-3688427CAB5D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DC579321-2282-4DF2-A885-5CDC73F150DC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4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85075A08-D895-4001-9BE3-2F967FE993AE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9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C09C6713-FB90-4DF0-95B7-AC434BDCE68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27D00E-D90D-4099-8FED-F6DDA210F0E2}" type="slidenum">
              <a:t>&lt;#&gt;</a:t>
            </a:fld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4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5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6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7A1F9B32-F462-40C3-87CA-2DCBE08A9663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1B798AAA-0FDE-4E6C-B314-1990713FEBDB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7A9D2BF7-43A7-40F2-A18B-6D97A1A3B242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06B1AC86-1489-48DF-B57F-6C387725B2FC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0C606DE-F516-4574-9EAC-E7EC75873885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F29B6D40-19E7-40BF-8C11-D8F46F400865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60303FBB-3BB9-40F6-98F3-9AB107D37EC3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242EB5D1-33C9-4AD9-B17E-A261692A9F5F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C99FB975-FED8-47EB-A8A9-4A733810E891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12BA7978-6946-40C4-9F60-1908952ECB0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588B35-74BC-4AB0-BE87-16ACC86E9937}" type="slidenum">
              <a:t>&lt;#&gt;</a:t>
            </a:fld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F3D2A24D-3014-4A71-B4A8-9996D07B5251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2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ABA5D9F3-0D99-4708-AC10-E2A825697302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7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8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9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65FA0E1-EEBF-44FE-ABB0-47D951D03EF7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B77891A-650B-4D98-A467-1A6AEF3D3921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78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72CB8B4-8A2F-4496-B554-A8AED344477D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26C74B5-372F-4BE6-A5FD-66B5CD4C778E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2BF6155-1998-403E-AE2D-DAAA3E01A113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CBDB60E-6009-43A6-899B-BB88AB59ED85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4717678-71DA-4BCF-87E4-F6479BDA1D98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BCB041E-E726-4651-B0C4-A225F675057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C17CC9-AB1B-47F8-94F5-88EA59AED9E9}" type="slidenum">
              <a:t>&lt;#&gt;</a:t>
            </a:fld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3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6A7424C-9D95-4EB9-91A8-C0449990E095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9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FC3800E-2FFA-49DB-973E-5E72E19C8B3D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0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82B5975-68DA-44A9-807E-DA643024C142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0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5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C4A87BE-AF4A-4296-BAC5-37A28FAE73C3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8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9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0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1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2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668ECA6-AED6-4366-9C22-E31252859D21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B7CA6580-A7DA-4E7E-A3BA-CCB9204B1104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D914F253-CF6C-4DAB-82D6-AAD95FC51980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F23A344-981B-41C6-87BE-FB1C0C4D9DBC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D2CC96FF-3AA9-49FF-9D7B-5BA37A0CB9A2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73470AAD-4C73-4D53-B31D-19FFF050D95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19ACF5-8D07-4B13-9152-515C8662273E}" type="slidenum">
              <a:t>&lt;#&gt;</a:t>
            </a:fld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01F0853-F0F7-4D69-8C42-4110C00F23F1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3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40EE2994-BA6C-4699-B10A-EFD83467D569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6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3B035CBD-C003-462E-ABDC-255C34E4573C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6629174-2C86-4C2F-991E-81B3B9E1AEB8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E8465994-6C11-4C7E-87AD-34EACE4C1C95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8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62E0A3FA-5C0D-4112-A0CC-F514475911B3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1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2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3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4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5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8F88D02-4CBC-40E3-8AE3-14797E5A39D9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0D1E9AF7-75EA-4E0B-A6B3-6C68734A5C80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35F3B55-EDA9-4150-AEE4-CF914D8ADD1B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AECDF931-8222-4C78-B48D-6CAE888AD0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BD139-BFF7-4D28-B88F-7D9D13F1F8C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BEA8AB-73F3-48FB-BC14-89E183279828}" type="slidenum">
              <a:t>&lt;#&gt;</a:t>
            </a:fld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F7A2226B-19E0-4DF2-8101-B38FB1A33C89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DE48A0B5-4205-4293-85ED-57420EEA6BFC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EB051FE-38DC-4989-82A6-D0004A3036AD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FAF66EEB-8975-4F2C-B2B5-E54A0AB1EBA4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9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A165E6A6-FFBB-40F0-9B57-7B56460E3E12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8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93A8CEFD-DFD6-4C0B-A5A1-CA814EF761C3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8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6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B185635C-EE94-488F-9FD7-A0A762BA4DCF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1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8138F4B7-EBED-4863-AD36-E2D7DA52A183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5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6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7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8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14640C8-4DC7-49FB-B028-26A8A6DA9F6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1CC524-3BEF-46B0-B989-46A21F34874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03630C-AA6A-4398-BDC5-C21455CDD4C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AFF80-D835-4E98-8B76-18B7AEA38B4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8237D-15AB-426E-843E-690E412C9B4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289C8-C68E-4681-BF5F-BAD4A6B5A2F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1FD27-995D-427F-A557-D00F27406A7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06E59-7E3C-43DC-AD46-B8E85A0B75F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F9F28-C4BC-4BD1-B7BD-8A0C1AFD9F9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3A69A-1A99-4AE7-AA1E-D2320F280E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E0C7A-C6C3-44A5-BC20-515FBFD7D58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2A672-A5B6-4409-8D95-609889DDA30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50B11-6863-4B74-9AB9-751629A198C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BCE7E-5988-4C7D-8E45-7A8441B90D4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34D98-C0C5-45DB-9B75-41F7ADE93DC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7054C-E3E2-4FF1-8785-A717F9973E0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1DB20-5048-4C50-B8A0-3F012CD4876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579EF6-9A67-45DC-AF9E-0E0AAE7E664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AFFBCE-728D-4895-A2FC-ECC8694371F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CFA954-0C94-4A84-B81F-50CBCB795C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flèche et barres"/>
          <p:cNvPicPr/>
          <p:nvPr/>
        </p:nvPicPr>
        <p:blipFill>
          <a:blip r:embed="rId2"/>
          <a:stretch/>
        </p:blipFill>
        <p:spPr>
          <a:xfrm>
            <a:off x="0" y="898560"/>
            <a:ext cx="998640" cy="743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71560" y="752400"/>
            <a:ext cx="837864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9e8464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9e8464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70120" y="1890720"/>
            <a:ext cx="8416800" cy="5099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401"/>
              </a:spcBef>
              <a:buClr>
                <a:srgbClr val="cb7a14"/>
              </a:buClr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4120" indent="-282600">
              <a:spcBef>
                <a:spcPts val="2401"/>
              </a:spcBef>
              <a:buClr>
                <a:srgbClr val="673b15"/>
              </a:buClr>
              <a:buSzPct val="9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63640" indent="-206280">
              <a:spcBef>
                <a:spcPts val="2401"/>
              </a:spcBef>
              <a:buClr>
                <a:srgbClr val="673b15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035000" indent="-169920">
              <a:spcBef>
                <a:spcPts val="2401"/>
              </a:spcBef>
              <a:buClr>
                <a:srgbClr val="000000"/>
              </a:buClr>
              <a:buSzPct val="95000"/>
              <a:buFont typeface="Verdana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219320" indent="-182520">
              <a:spcBef>
                <a:spcPts val="240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219320" indent="-18252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219320" indent="-18252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787960" y="7226280"/>
            <a:ext cx="490680" cy="224280"/>
          </a:xfrm>
          <a:prstGeom prst="rect">
            <a:avLst/>
          </a:prstGeom>
          <a:solidFill>
            <a:srgbClr val="6a8c9d"/>
          </a:solidFill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0F09-6CDD-4702-A435-4967803F1CF8}" type="slidenum">
              <a:rPr b="0" lang="fr-F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9" descr="logo-2,5cm-+-ombre"/>
          <p:cNvPicPr/>
          <p:nvPr/>
        </p:nvPicPr>
        <p:blipFill>
          <a:blip r:embed="rId3"/>
          <a:stretch/>
        </p:blipFill>
        <p:spPr>
          <a:xfrm>
            <a:off x="8721720" y="6516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6" descr="Bandeau"/>
          <p:cNvPicPr/>
          <p:nvPr/>
        </p:nvPicPr>
        <p:blipFill>
          <a:blip r:embed="rId4"/>
          <a:stretch/>
        </p:blipFill>
        <p:spPr>
          <a:xfrm>
            <a:off x="0" y="0"/>
            <a:ext cx="5581800" cy="755640"/>
          </a:xfrm>
          <a:prstGeom prst="rect">
            <a:avLst/>
          </a:prstGeom>
          <a:ln w="0">
            <a:noFill/>
          </a:ln>
        </p:spPr>
      </p:pic>
      <p:sp>
        <p:nvSpPr>
          <p:cNvPr id="6" name="Text Box 17"/>
          <p:cNvSpPr/>
          <p:nvPr/>
        </p:nvSpPr>
        <p:spPr>
          <a:xfrm>
            <a:off x="3421440" y="7323120"/>
            <a:ext cx="31438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Slid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I_010c43d-1.3,CURRENT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5560" indent="-28404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5080" indent="-20772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6800" indent="-1717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20760" indent="-18396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ftr" idx="12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sldNum" idx="13"/>
          </p:nvPr>
        </p:nvSpPr>
        <p:spPr>
          <a:xfrm>
            <a:off x="8168760" y="480600"/>
            <a:ext cx="43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9610-FB04-456C-8A2A-1A405987A909}" type="slidenum">
              <a:rPr b="0" lang="fr-FR" sz="1800" spc="-1" strike="noStrike">
                <a:solidFill>
                  <a:srgbClr val="d2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8"/>
          <p:cNvSpPr/>
          <p:nvPr/>
        </p:nvSpPr>
        <p:spPr>
          <a:xfrm>
            <a:off x="664524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1" descr="IMAGE-PAGE-DE-COUV2"/>
          <p:cNvPicPr/>
          <p:nvPr/>
        </p:nvPicPr>
        <p:blipFill>
          <a:blip r:embed="rId2"/>
          <a:stretch/>
        </p:blipFill>
        <p:spPr>
          <a:xfrm>
            <a:off x="69840" y="54000"/>
            <a:ext cx="9582120" cy="74534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CEGOS_VOCATION_quad"/>
          <p:cNvPicPr/>
          <p:nvPr/>
        </p:nvPicPr>
        <p:blipFill>
          <a:blip r:embed="rId3"/>
          <a:stretch/>
        </p:blipFill>
        <p:spPr>
          <a:xfrm>
            <a:off x="3341520" y="6226200"/>
            <a:ext cx="3426120" cy="104472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71560" y="752400"/>
            <a:ext cx="837864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9e8464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9e8464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70120" y="1890720"/>
            <a:ext cx="8416800" cy="5099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401"/>
              </a:spcBef>
              <a:buClr>
                <a:srgbClr val="cb7a14"/>
              </a:buClr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4120" indent="-282600">
              <a:spcBef>
                <a:spcPts val="2401"/>
              </a:spcBef>
              <a:buClr>
                <a:srgbClr val="673b15"/>
              </a:buClr>
              <a:buSzPct val="9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63640" indent="-206280">
              <a:spcBef>
                <a:spcPts val="2401"/>
              </a:spcBef>
              <a:buClr>
                <a:srgbClr val="673b15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035000" indent="-169920">
              <a:spcBef>
                <a:spcPts val="2401"/>
              </a:spcBef>
              <a:buClr>
                <a:srgbClr val="000000"/>
              </a:buClr>
              <a:buSzPct val="95000"/>
              <a:buFont typeface="Verdana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219320" indent="-182520">
              <a:spcBef>
                <a:spcPts val="240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219320" indent="-18252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219320" indent="-18252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ftr" idx="14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sldNum" idx="15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CB5C-FA6A-4ABA-8CA5-F36018CC2EB3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ftr" idx="16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sldNum" idx="17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726A-F15A-4A39-B201-264B15B1AC5A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ftr" idx="18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sldNum" idx="19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A2DF-0DF7-4A60-9227-3A1DA591AB13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628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ftr" idx="20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sldNum" idx="21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2468-8716-4A0D-B554-45D90931F493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671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ftr" idx="22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sldNum" idx="23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8A0B-1ADE-4269-B5B2-FDA882F6DB53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ftr" idx="24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sldNum" idx="25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FFF9-387B-4D66-85D5-6D9EC2A9C07C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757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ftr" idx="26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sldNum" idx="27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28B4-DBB8-42D6-9294-B4FBDCB69F1D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IMAGE-PAGE-DE-SS-TITRE"/>
          <p:cNvPicPr/>
          <p:nvPr/>
        </p:nvPicPr>
        <p:blipFill>
          <a:blip r:embed="rId2"/>
          <a:stretch/>
        </p:blipFill>
        <p:spPr>
          <a:xfrm>
            <a:off x="69840" y="54000"/>
            <a:ext cx="9582120" cy="7453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767040" y="4132440"/>
            <a:ext cx="5749920" cy="12585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0" anchor="b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000" spc="-1" strike="noStrike">
                <a:solidFill>
                  <a:srgbClr val="673b15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673b15"/>
              </a:solidFill>
              <a:latin typeface="Verdana"/>
            </a:endParaRPr>
          </a:p>
        </p:txBody>
      </p:sp>
      <p:pic>
        <p:nvPicPr>
          <p:cNvPr id="46" name="Picture 4" descr="logo-2,5cm-+-ombre"/>
          <p:cNvPicPr/>
          <p:nvPr/>
        </p:nvPicPr>
        <p:blipFill>
          <a:blip r:embed="rId3"/>
          <a:stretch/>
        </p:blipFill>
        <p:spPr>
          <a:xfrm>
            <a:off x="4549680" y="6342120"/>
            <a:ext cx="819360" cy="819000"/>
          </a:xfrm>
          <a:prstGeom prst="rect">
            <a:avLst/>
          </a:prstGeom>
          <a:ln w="0">
            <a:noFill/>
          </a:ln>
        </p:spPr>
      </p:pic>
      <p:sp>
        <p:nvSpPr>
          <p:cNvPr id="47" name="SlideMasterXYZ"/>
          <p:cNvSpPr/>
          <p:nvPr/>
        </p:nvSpPr>
        <p:spPr>
          <a:xfrm rot="16200000">
            <a:off x="12600" y="541296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I_010c43d-1.3,CURRENT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839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 type="ftr" idx="28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 type="sldNum" idx="29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2ADF-8333-4C19-A3A9-E22AE31A26E0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1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882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ftr" idx="30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sldNum" idx="31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BD1A-7659-47F3-8AFF-C4614DB310AB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925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ftr" idx="32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sldNum" idx="33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A5EF-CE68-49B6-BFEE-5365D289184E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968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 type="ftr" idx="34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 type="sldNum" idx="35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3FF1-1F5C-46C5-9DE8-1ED24B70346E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011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 type="ftr" idx="36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 type="sldNum" idx="37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B62E-807D-44CB-907E-C180F3B415EC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054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 type="ftr" idx="38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 type="sldNum" idx="39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94D6-E041-42AF-92F2-025A9786B06A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6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097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8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 type="ftr" idx="40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 type="sldNum" idx="41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3742-FC3F-4974-976F-5392D4EAD1BD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8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179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0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 type="ftr" idx="42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 type="sldNum" idx="43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DD08-5414-48A7-AF4C-9AA6F1CF3437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2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3"/>
          </p:nvPr>
        </p:nvSpPr>
        <p:spPr>
          <a:xfrm>
            <a:off x="8168760" y="479160"/>
            <a:ext cx="436680" cy="27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F651-F7BC-4112-AD0E-B2EA9AA38120}" type="slidenum">
              <a:rPr b="0" lang="fr-FR" sz="1800" spc="-1" strike="noStrike">
                <a:solidFill>
                  <a:srgbClr val="d2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1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222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 type="ftr" idx="44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 type="sldNum" idx="45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54B0-5E02-42DB-B0A5-11908730E907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4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265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 type="ftr" idx="46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 type="sldNum" idx="47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A8E2-2F9B-40B6-B9A8-164540CD5C13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7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308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 type="ftr" idx="48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 type="sldNum" idx="49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360F-359D-4692-993D-0AD6A31CC923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0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351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ftr" idx="50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sldNum" idx="51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827E-5482-434B-9933-0270D03B0DAC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3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394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5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ftr" idx="52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 type="sldNum" idx="53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53CD-9E8B-49DD-90D6-E54559B167AA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6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437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ftr" idx="54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sldNum" idx="55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9BDF-FD2E-46E3-A939-4D3ECF0FAA1D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8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519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0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 type="ftr" idx="56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 type="sldNum" idx="57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2CBB-26C7-4B32-9A49-EDEB17BB9E83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1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562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 type="ftr" idx="58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 type="sldNum" idx="59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EBAD-5AB6-47E5-94D3-A6EC5D2AF368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4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605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6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 type="ftr" idx="60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 type="sldNum" idx="61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9221-E73F-4326-BFBC-2F88AA223AD7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3" descr="Cegos-Image_6ter"/>
          <p:cNvPicPr/>
          <p:nvPr/>
        </p:nvPicPr>
        <p:blipFill>
          <a:blip r:embed="rId2"/>
          <a:stretch/>
        </p:blipFill>
        <p:spPr>
          <a:xfrm>
            <a:off x="0" y="2651040"/>
            <a:ext cx="9721800" cy="2067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777840" y="1790280"/>
            <a:ext cx="5675400" cy="1258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000" spc="-1" strike="noStrike">
                <a:solidFill>
                  <a:srgbClr val="d20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d20000"/>
              </a:solidFill>
              <a:latin typeface="Arial Narrow"/>
            </a:endParaRPr>
          </a:p>
        </p:txBody>
      </p:sp>
      <p:pic>
        <p:nvPicPr>
          <p:cNvPr id="129" name="Picture 4" descr="logo-2,5cm-+-ombre"/>
          <p:cNvPicPr/>
          <p:nvPr/>
        </p:nvPicPr>
        <p:blipFill>
          <a:blip r:embed="rId3"/>
          <a:stretch/>
        </p:blipFill>
        <p:spPr>
          <a:xfrm>
            <a:off x="4549680" y="6342120"/>
            <a:ext cx="819360" cy="819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532480" y="5345280"/>
            <a:ext cx="3921120" cy="131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0000"/>
          </a:bodyPr>
          <a:p>
            <a:pPr marL="136440" indent="0">
              <a:spcBef>
                <a:spcPts val="60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136440" indent="-1364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6440" indent="-1364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6440" indent="-1364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36440" indent="-136440"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36440" indent="-136440"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36440" indent="-136440"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Freeform 12"/>
          <p:cNvSpPr/>
          <p:nvPr/>
        </p:nvSpPr>
        <p:spPr>
          <a:xfrm>
            <a:off x="2500200" y="4960800"/>
            <a:ext cx="2941920" cy="636840"/>
          </a:xfrm>
          <a:custGeom>
            <a:avLst/>
            <a:gdLst/>
            <a:ahLst/>
            <a:rect l="l" t="t" r="r" b="b"/>
            <a:pathLst>
              <a:path w="1853" h="401">
                <a:moveTo>
                  <a:pt x="0" y="0"/>
                </a:moveTo>
                <a:lnTo>
                  <a:pt x="1330" y="0"/>
                </a:lnTo>
                <a:lnTo>
                  <a:pt x="1328" y="401"/>
                </a:lnTo>
                <a:lnTo>
                  <a:pt x="1853" y="401"/>
                </a:lnTo>
              </a:path>
            </a:pathLst>
          </a:custGeom>
          <a:noFill/>
          <a:ln w="19080">
            <a:solidFill>
              <a:srgbClr val="00516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7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648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 type="ftr" idx="62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 type="sldNum" idx="63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1328-DE8E-4CB4-AF79-190012DA2503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0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691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2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 type="ftr" idx="64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 type="sldNum" idx="65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2DFB-E531-48E2-B2F6-02A8D1DA64B0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3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734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5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 type="ftr" idx="66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 type="sldNum" idx="67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7311-8912-413A-9137-9A7B1E4D755C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6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777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8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 type="ftr" idx="68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 type="sldNum" idx="69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8EA7-2519-4DA7-957D-B1BBAA891617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8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859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0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 type="ftr" idx="70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 type="sldNum" idx="71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A7B2-36BD-4FBA-BCBD-46BDA78D7575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1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902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3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 type="ftr" idx="72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 type="sldNum" idx="73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9D38-BF1C-4AC9-BA32-98F91EE3C778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4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945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6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 type="ftr" idx="74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 type="sldNum" idx="75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44B6-6AA9-4D25-A34F-9EE48D49D0F9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7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988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 type="ftr" idx="76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 type="sldNum" idx="77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049D-8946-445C-B711-308E105A493A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0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031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2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 type="ftr" idx="78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6" name="PlaceHolder 4"/>
          <p:cNvSpPr>
            <a:spLocks noGrp="1"/>
          </p:cNvSpPr>
          <p:nvPr>
            <p:ph type="sldNum" idx="79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CCC4-F8C9-4E47-A05A-6FA2403C8ADD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4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5"/>
          </p:nvPr>
        </p:nvSpPr>
        <p:spPr>
          <a:xfrm>
            <a:off x="8168760" y="479160"/>
            <a:ext cx="436680" cy="27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1D57-4115-44AD-A960-91F9D83E4D94}" type="slidenum">
              <a:rPr b="0" lang="fr-FR" sz="1800" spc="-1" strike="noStrike">
                <a:solidFill>
                  <a:srgbClr val="d2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3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074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5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 type="ftr" idx="80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9" name="PlaceHolder 4"/>
          <p:cNvSpPr>
            <a:spLocks noGrp="1"/>
          </p:cNvSpPr>
          <p:nvPr>
            <p:ph type="sldNum" idx="81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041A-6AE6-4083-8759-222B0BBC4DB0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6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117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8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 type="ftr" idx="82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2" name="PlaceHolder 4"/>
          <p:cNvSpPr>
            <a:spLocks noGrp="1"/>
          </p:cNvSpPr>
          <p:nvPr>
            <p:ph type="sldNum" idx="83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FFE8-D59B-438F-9162-C16914D7E3EF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5560" indent="-28404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5080" indent="-20772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6800" indent="-1717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20760" indent="-18396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8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199" name="Text Box 8"/>
          <p:cNvSpPr/>
          <p:nvPr/>
        </p:nvSpPr>
        <p:spPr>
          <a:xfrm>
            <a:off x="664524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0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5560" indent="-28404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5080" indent="-20772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6800" indent="-1717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20760" indent="-18396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 type="ftr" idx="84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4" name="PlaceHolder 4"/>
          <p:cNvSpPr>
            <a:spLocks noGrp="1"/>
          </p:cNvSpPr>
          <p:nvPr>
            <p:ph type="sldNum" idx="85"/>
          </p:nvPr>
        </p:nvSpPr>
        <p:spPr>
          <a:xfrm>
            <a:off x="8168760" y="462240"/>
            <a:ext cx="43668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662A-E6FA-4CB8-8048-1741133C34B6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1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242" name="Text Box 8"/>
          <p:cNvSpPr/>
          <p:nvPr/>
        </p:nvSpPr>
        <p:spPr>
          <a:xfrm>
            <a:off x="664524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3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5560" indent="-28404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5080" indent="-20772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6800" indent="-1717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20760" indent="-18396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 type="ftr" idx="86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7" name="PlaceHolder 4"/>
          <p:cNvSpPr>
            <a:spLocks noGrp="1"/>
          </p:cNvSpPr>
          <p:nvPr>
            <p:ph type="sldNum" idx="87"/>
          </p:nvPr>
        </p:nvSpPr>
        <p:spPr>
          <a:xfrm>
            <a:off x="8168760" y="462240"/>
            <a:ext cx="43668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F06E-EA33-4507-B8E0-9F19B52D61DB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4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285" name="Text Box 8"/>
          <p:cNvSpPr/>
          <p:nvPr/>
        </p:nvSpPr>
        <p:spPr>
          <a:xfrm>
            <a:off x="664524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6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5560" indent="-28404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5080" indent="-20772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6800" indent="-1717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20760" indent="-18396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 type="ftr" idx="88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0" name="PlaceHolder 4"/>
          <p:cNvSpPr>
            <a:spLocks noGrp="1"/>
          </p:cNvSpPr>
          <p:nvPr>
            <p:ph type="sldNum" idx="89"/>
          </p:nvPr>
        </p:nvSpPr>
        <p:spPr>
          <a:xfrm>
            <a:off x="8168760" y="462240"/>
            <a:ext cx="43668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7592-6A28-4DDA-B456-D8FA0E1C0C54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7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328" name="Text Box 8"/>
          <p:cNvSpPr/>
          <p:nvPr/>
        </p:nvSpPr>
        <p:spPr>
          <a:xfrm>
            <a:off x="664524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5560" indent="-28404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5080" indent="-20772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6800" indent="-1717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20760" indent="-18396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 type="ftr" idx="90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 type="sldNum" idx="91"/>
          </p:nvPr>
        </p:nvSpPr>
        <p:spPr>
          <a:xfrm>
            <a:off x="8168760" y="462240"/>
            <a:ext cx="43668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4A24-F3B2-447C-B530-B9571F7F4969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0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371" name="Text Box 8"/>
          <p:cNvSpPr/>
          <p:nvPr/>
        </p:nvSpPr>
        <p:spPr>
          <a:xfrm>
            <a:off x="664524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2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5560" indent="-28404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5080" indent="-20772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6800" indent="-1717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20760" indent="-18396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75" name="PlaceHolder 3"/>
          <p:cNvSpPr>
            <a:spLocks noGrp="1"/>
          </p:cNvSpPr>
          <p:nvPr>
            <p:ph type="ftr" idx="92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6" name="PlaceHolder 4"/>
          <p:cNvSpPr>
            <a:spLocks noGrp="1"/>
          </p:cNvSpPr>
          <p:nvPr>
            <p:ph type="sldNum" idx="93"/>
          </p:nvPr>
        </p:nvSpPr>
        <p:spPr>
          <a:xfrm>
            <a:off x="8168760" y="462240"/>
            <a:ext cx="43668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DBFE-2F8F-492D-BD82-2CBA8D6D6310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3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414" name="Text Box 8"/>
          <p:cNvSpPr/>
          <p:nvPr/>
        </p:nvSpPr>
        <p:spPr>
          <a:xfrm>
            <a:off x="664524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5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5560" indent="-28404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5080" indent="-20772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6800" indent="-1717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20760" indent="-18396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8" name="PlaceHolder 3"/>
          <p:cNvSpPr>
            <a:spLocks noGrp="1"/>
          </p:cNvSpPr>
          <p:nvPr>
            <p:ph type="ftr" idx="94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9" name="PlaceHolder 4"/>
          <p:cNvSpPr>
            <a:spLocks noGrp="1"/>
          </p:cNvSpPr>
          <p:nvPr>
            <p:ph type="sldNum" idx="95"/>
          </p:nvPr>
        </p:nvSpPr>
        <p:spPr>
          <a:xfrm>
            <a:off x="8168760" y="462240"/>
            <a:ext cx="43668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8E8F-5E01-4CAC-8230-0830CB2855AB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6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457" name="Text Box 8"/>
          <p:cNvSpPr/>
          <p:nvPr/>
        </p:nvSpPr>
        <p:spPr>
          <a:xfrm>
            <a:off x="664524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8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60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5560" indent="-28404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5080" indent="-20772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6800" indent="-1717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20760" indent="-18396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1" name="PlaceHolder 3"/>
          <p:cNvSpPr>
            <a:spLocks noGrp="1"/>
          </p:cNvSpPr>
          <p:nvPr>
            <p:ph type="ftr" idx="96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2" name="PlaceHolder 4"/>
          <p:cNvSpPr>
            <a:spLocks noGrp="1"/>
          </p:cNvSpPr>
          <p:nvPr>
            <p:ph type="sldNum" idx="97"/>
          </p:nvPr>
        </p:nvSpPr>
        <p:spPr>
          <a:xfrm>
            <a:off x="8168760" y="462240"/>
            <a:ext cx="43668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3D67-0675-40ED-A458-38F849E2A8A8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6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7"/>
          </p:nvPr>
        </p:nvSpPr>
        <p:spPr>
          <a:xfrm>
            <a:off x="8168760" y="479160"/>
            <a:ext cx="436680" cy="27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4E11-B925-4A99-9EDB-204A88B8653C}" type="slidenum">
              <a:rPr b="0" lang="fr-FR" sz="1800" spc="-1" strike="noStrike">
                <a:solidFill>
                  <a:srgbClr val="d2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8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9"/>
          </p:nvPr>
        </p:nvSpPr>
        <p:spPr>
          <a:xfrm>
            <a:off x="8168760" y="479160"/>
            <a:ext cx="436680" cy="27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AE59-A2AB-45DC-9F86-935CA7B48CAB}" type="slidenum">
              <a:rPr b="0" lang="fr-FR" sz="1800" spc="-1" strike="noStrike">
                <a:solidFill>
                  <a:srgbClr val="d2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ftr" idx="10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11"/>
          </p:nvPr>
        </p:nvSpPr>
        <p:spPr>
          <a:xfrm>
            <a:off x="8168760" y="479160"/>
            <a:ext cx="436680" cy="27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2A33-88F4-424A-B80C-E2973C80C4C9}" type="slidenum">
              <a:rPr b="0" lang="fr-FR" sz="1800" spc="-1" strike="noStrike">
                <a:solidFill>
                  <a:srgbClr val="d2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3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397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19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397.xml"/><Relationship Id="rId10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2" name="Ellipse 9" descr=""/>
          <p:cNvPicPr/>
          <p:nvPr/>
        </p:nvPicPr>
        <p:blipFill>
          <a:blip r:embed="rId1"/>
          <a:stretch/>
        </p:blipFill>
        <p:spPr>
          <a:xfrm>
            <a:off x="7234200" y="4602240"/>
            <a:ext cx="2668680" cy="1639800"/>
          </a:xfrm>
          <a:prstGeom prst="rect">
            <a:avLst/>
          </a:prstGeom>
          <a:ln w="0">
            <a:noFill/>
          </a:ln>
        </p:spPr>
      </p:pic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fr-FR" sz="4200" spc="-1" strike="noStrike">
                <a:solidFill>
                  <a:srgbClr val="9e8464"/>
                </a:solidFill>
                <a:latin typeface="Arial Narrow"/>
              </a:rPr>
              <a:t>Des objectifs </a:t>
            </a:r>
            <a:r>
              <a:rPr b="1" lang="fr-FR" sz="4200" spc="-1" strike="noStrike">
                <a:solidFill>
                  <a:srgbClr val="9e8464"/>
                </a:solidFill>
                <a:latin typeface="Wingdings"/>
                <a:ea typeface="Wingdings"/>
              </a:rPr>
              <a:t></a:t>
            </a:r>
            <a:r>
              <a:rPr b="1" lang="fr-FR" sz="4200" spc="-1" strike="noStrike">
                <a:solidFill>
                  <a:srgbClr val="9e8464"/>
                </a:solidFill>
                <a:latin typeface="Arial Narrow"/>
              </a:rPr>
              <a:t> des moyens !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524" name="Espace réservé du numéro de diapositive 3"/>
          <p:cNvSpPr/>
          <p:nvPr/>
        </p:nvSpPr>
        <p:spPr>
          <a:xfrm>
            <a:off x="7378560" y="7161120"/>
            <a:ext cx="22687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3A26-2C80-4A06-943A-CAF138EEDE65}" type="slidenum">
              <a:rPr b="0" lang="fr-FR" sz="13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5" name="Ellipse 4" descr=""/>
          <p:cNvPicPr/>
          <p:nvPr/>
        </p:nvPicPr>
        <p:blipFill>
          <a:blip r:embed="rId2"/>
          <a:stretch/>
        </p:blipFill>
        <p:spPr>
          <a:xfrm>
            <a:off x="403200" y="1914480"/>
            <a:ext cx="2530440" cy="1639800"/>
          </a:xfrm>
          <a:prstGeom prst="rect">
            <a:avLst/>
          </a:prstGeom>
          <a:ln w="0">
            <a:noFill/>
          </a:ln>
        </p:spPr>
      </p:pic>
      <p:sp>
        <p:nvSpPr>
          <p:cNvPr id="2526" name="Text Box 6"/>
          <p:cNvSpPr/>
          <p:nvPr/>
        </p:nvSpPr>
        <p:spPr>
          <a:xfrm>
            <a:off x="879480" y="2143080"/>
            <a:ext cx="1467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nquér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27" name="Ellipse 5"/>
          <p:cNvGrpSpPr/>
          <p:nvPr/>
        </p:nvGrpSpPr>
        <p:grpSpPr>
          <a:xfrm>
            <a:off x="2719440" y="1925640"/>
            <a:ext cx="2333520" cy="1592280"/>
            <a:chOff x="2719440" y="1925640"/>
            <a:chExt cx="2333520" cy="1592280"/>
          </a:xfrm>
        </p:grpSpPr>
        <p:pic>
          <p:nvPicPr>
            <p:cNvPr id="2528" name="Ellipse 5" descr=""/>
            <p:cNvPicPr/>
            <p:nvPr/>
          </p:nvPicPr>
          <p:blipFill>
            <a:blip r:embed="rId3"/>
            <a:stretch/>
          </p:blipFill>
          <p:spPr>
            <a:xfrm>
              <a:off x="2719440" y="1925640"/>
              <a:ext cx="2333520" cy="15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9" name=""/>
            <p:cNvSpPr/>
            <p:nvPr/>
          </p:nvSpPr>
          <p:spPr>
            <a:xfrm>
              <a:off x="3041640" y="2141640"/>
              <a:ext cx="136044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ffffff"/>
                  </a:solidFill>
                  <a:latin typeface="Arial"/>
                </a:rPr>
                <a:t>Fidéliser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30" name="Ellipse 6"/>
          <p:cNvGrpSpPr/>
          <p:nvPr/>
        </p:nvGrpSpPr>
        <p:grpSpPr>
          <a:xfrm>
            <a:off x="4992840" y="1925640"/>
            <a:ext cx="2590560" cy="1592280"/>
            <a:chOff x="4992840" y="1925640"/>
            <a:chExt cx="2590560" cy="1592280"/>
          </a:xfrm>
        </p:grpSpPr>
        <p:pic>
          <p:nvPicPr>
            <p:cNvPr id="2531" name="Ellipse 6" descr=""/>
            <p:cNvPicPr/>
            <p:nvPr/>
          </p:nvPicPr>
          <p:blipFill>
            <a:blip r:embed="rId4"/>
            <a:stretch/>
          </p:blipFill>
          <p:spPr>
            <a:xfrm>
              <a:off x="4992840" y="1925640"/>
              <a:ext cx="2590560" cy="15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2" name=""/>
            <p:cNvSpPr/>
            <p:nvPr/>
          </p:nvSpPr>
          <p:spPr>
            <a:xfrm>
              <a:off x="5357880" y="2141640"/>
              <a:ext cx="153828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Informer, activer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33" name="Ellipse 7"/>
          <p:cNvGrpSpPr/>
          <p:nvPr/>
        </p:nvGrpSpPr>
        <p:grpSpPr>
          <a:xfrm>
            <a:off x="201600" y="4681440"/>
            <a:ext cx="2511360" cy="1590840"/>
            <a:chOff x="201600" y="4681440"/>
            <a:chExt cx="2511360" cy="1590840"/>
          </a:xfrm>
        </p:grpSpPr>
        <p:pic>
          <p:nvPicPr>
            <p:cNvPr id="2534" name="Ellipse 7" descr=""/>
            <p:cNvPicPr/>
            <p:nvPr/>
          </p:nvPicPr>
          <p:blipFill>
            <a:blip r:embed="rId5"/>
            <a:stretch/>
          </p:blipFill>
          <p:spPr>
            <a:xfrm>
              <a:off x="201600" y="4681440"/>
              <a:ext cx="25113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5" name=""/>
            <p:cNvSpPr/>
            <p:nvPr/>
          </p:nvSpPr>
          <p:spPr>
            <a:xfrm>
              <a:off x="550800" y="4898880"/>
              <a:ext cx="1487520" cy="83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Qualifier la BDD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36" name="Group 16"/>
          <p:cNvGrpSpPr/>
          <p:nvPr/>
        </p:nvGrpSpPr>
        <p:grpSpPr>
          <a:xfrm>
            <a:off x="2563920" y="4672080"/>
            <a:ext cx="2528280" cy="1639440"/>
            <a:chOff x="2563920" y="4672080"/>
            <a:chExt cx="2528280" cy="1639440"/>
          </a:xfrm>
        </p:grpSpPr>
        <p:pic>
          <p:nvPicPr>
            <p:cNvPr id="2537" name="Ellipse 8" descr=""/>
            <p:cNvPicPr/>
            <p:nvPr/>
          </p:nvPicPr>
          <p:blipFill>
            <a:blip r:embed="rId6"/>
            <a:stretch/>
          </p:blipFill>
          <p:spPr>
            <a:xfrm>
              <a:off x="2563920" y="4672080"/>
              <a:ext cx="2528280" cy="163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8" name="Text Box 18"/>
            <p:cNvSpPr/>
            <p:nvPr/>
          </p:nvSpPr>
          <p:spPr>
            <a:xfrm>
              <a:off x="2869200" y="4899240"/>
              <a:ext cx="1684800" cy="83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ffffff"/>
                  </a:solidFill>
                  <a:latin typeface="Arial"/>
                </a:rPr>
                <a:t>Promouvoir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39" name="Group 19"/>
          <p:cNvGrpSpPr/>
          <p:nvPr/>
        </p:nvGrpSpPr>
        <p:grpSpPr>
          <a:xfrm>
            <a:off x="4861080" y="4672080"/>
            <a:ext cx="2667960" cy="1639440"/>
            <a:chOff x="4861080" y="4672080"/>
            <a:chExt cx="2667960" cy="1639440"/>
          </a:xfrm>
        </p:grpSpPr>
        <p:pic>
          <p:nvPicPr>
            <p:cNvPr id="2540" name="Ellipse 9" descr=""/>
            <p:cNvPicPr/>
            <p:nvPr/>
          </p:nvPicPr>
          <p:blipFill>
            <a:blip r:embed="rId7"/>
            <a:stretch/>
          </p:blipFill>
          <p:spPr>
            <a:xfrm>
              <a:off x="4861080" y="4672080"/>
              <a:ext cx="2667960" cy="163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1" name="Text Box 21"/>
            <p:cNvSpPr/>
            <p:nvPr/>
          </p:nvSpPr>
          <p:spPr>
            <a:xfrm>
              <a:off x="5244120" y="4899240"/>
              <a:ext cx="1544040" cy="83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ffffff"/>
                  </a:solidFill>
                  <a:latin typeface="Arial"/>
                </a:rPr>
                <a:t>Traiter la prestation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542" name="Ellipse 18" descr=""/>
          <p:cNvPicPr/>
          <p:nvPr/>
        </p:nvPicPr>
        <p:blipFill>
          <a:blip r:embed="rId8"/>
          <a:stretch/>
        </p:blipFill>
        <p:spPr>
          <a:xfrm>
            <a:off x="7238880" y="1914480"/>
            <a:ext cx="2111400" cy="1639800"/>
          </a:xfrm>
          <a:prstGeom prst="rect">
            <a:avLst/>
          </a:prstGeom>
          <a:ln w="0">
            <a:noFill/>
          </a:ln>
        </p:spPr>
      </p:pic>
      <p:sp>
        <p:nvSpPr>
          <p:cNvPr id="2543" name="Text Box 23"/>
          <p:cNvSpPr/>
          <p:nvPr/>
        </p:nvSpPr>
        <p:spPr>
          <a:xfrm>
            <a:off x="7388280" y="2143080"/>
            <a:ext cx="1612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ffffff"/>
                </a:solidFill>
                <a:latin typeface="Arial"/>
              </a:rPr>
              <a:t>Générer du bouche à oreill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4" name="Rectangle 11"/>
          <p:cNvSpPr/>
          <p:nvPr/>
        </p:nvSpPr>
        <p:spPr>
          <a:xfrm>
            <a:off x="0" y="6300720"/>
            <a:ext cx="9721800" cy="1260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5" name="Text Box 28"/>
          <p:cNvSpPr/>
          <p:nvPr/>
        </p:nvSpPr>
        <p:spPr>
          <a:xfrm>
            <a:off x="7604280" y="4813200"/>
            <a:ext cx="154440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Vend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fr-FR" sz="4200" spc="-1" strike="noStrike">
                <a:solidFill>
                  <a:srgbClr val="6a8c9d"/>
                </a:solidFill>
                <a:latin typeface="Arial Narrow"/>
              </a:rPr>
              <a:t>Des objectifs </a:t>
            </a:r>
            <a:r>
              <a:rPr b="0" lang="fr-FR" sz="4200" spc="-1" strike="noStrike">
                <a:solidFill>
                  <a:srgbClr val="6a8c9d"/>
                </a:solidFill>
                <a:latin typeface="Wingdings"/>
                <a:ea typeface="Wingdings"/>
              </a:rPr>
              <a:t></a:t>
            </a:r>
            <a:r>
              <a:rPr b="0" lang="fr-FR" sz="4200" spc="-1" strike="noStrike">
                <a:solidFill>
                  <a:srgbClr val="6a8c9d"/>
                </a:solidFill>
                <a:latin typeface="Arial Narrow"/>
              </a:rPr>
              <a:t> des moyens !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grpSp>
        <p:nvGrpSpPr>
          <p:cNvPr id="2547" name="Ellipse 4"/>
          <p:cNvGrpSpPr/>
          <p:nvPr/>
        </p:nvGrpSpPr>
        <p:grpSpPr>
          <a:xfrm>
            <a:off x="281160" y="1889280"/>
            <a:ext cx="2481120" cy="1592280"/>
            <a:chOff x="281160" y="1889280"/>
            <a:chExt cx="2481120" cy="1592280"/>
          </a:xfrm>
        </p:grpSpPr>
        <p:pic>
          <p:nvPicPr>
            <p:cNvPr id="2548" name="Ellipse 4" descr=""/>
            <p:cNvPicPr/>
            <p:nvPr/>
          </p:nvPicPr>
          <p:blipFill>
            <a:blip r:embed="rId1"/>
            <a:stretch/>
          </p:blipFill>
          <p:spPr>
            <a:xfrm>
              <a:off x="281160" y="1889280"/>
              <a:ext cx="2481120" cy="15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9" name=""/>
            <p:cNvSpPr/>
            <p:nvPr/>
          </p:nvSpPr>
          <p:spPr>
            <a:xfrm>
              <a:off x="627120" y="2104920"/>
              <a:ext cx="1463760" cy="83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ffffff"/>
                  </a:solidFill>
                  <a:latin typeface="Arial"/>
                </a:rPr>
                <a:t>Conquérir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50" name="Ellipse 5"/>
          <p:cNvGrpSpPr/>
          <p:nvPr/>
        </p:nvGrpSpPr>
        <p:grpSpPr>
          <a:xfrm>
            <a:off x="2646360" y="1925640"/>
            <a:ext cx="2406600" cy="1592280"/>
            <a:chOff x="2646360" y="1925640"/>
            <a:chExt cx="2406600" cy="1592280"/>
          </a:xfrm>
        </p:grpSpPr>
        <p:pic>
          <p:nvPicPr>
            <p:cNvPr id="2551" name="Ellipse 5" descr=""/>
            <p:cNvPicPr/>
            <p:nvPr/>
          </p:nvPicPr>
          <p:blipFill>
            <a:blip r:embed="rId2"/>
            <a:stretch/>
          </p:blipFill>
          <p:spPr>
            <a:xfrm>
              <a:off x="2646360" y="1925640"/>
              <a:ext cx="2406600" cy="15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2" name=""/>
            <p:cNvSpPr/>
            <p:nvPr/>
          </p:nvSpPr>
          <p:spPr>
            <a:xfrm>
              <a:off x="2979720" y="2141640"/>
              <a:ext cx="141120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ffffff"/>
                  </a:solidFill>
                  <a:latin typeface="Arial"/>
                </a:rPr>
                <a:t>Fidéliser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53" name="Ellipse 6"/>
          <p:cNvGrpSpPr/>
          <p:nvPr/>
        </p:nvGrpSpPr>
        <p:grpSpPr>
          <a:xfrm>
            <a:off x="4870440" y="1725480"/>
            <a:ext cx="2567160" cy="1792440"/>
            <a:chOff x="4870440" y="1725480"/>
            <a:chExt cx="2567160" cy="1792440"/>
          </a:xfrm>
        </p:grpSpPr>
        <p:pic>
          <p:nvPicPr>
            <p:cNvPr id="2554" name="Ellipse 6" descr=""/>
            <p:cNvPicPr/>
            <p:nvPr/>
          </p:nvPicPr>
          <p:blipFill>
            <a:blip r:embed="rId3"/>
            <a:stretch/>
          </p:blipFill>
          <p:spPr>
            <a:xfrm>
              <a:off x="4870440" y="1725480"/>
              <a:ext cx="2567160" cy="17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5" name=""/>
            <p:cNvSpPr/>
            <p:nvPr/>
          </p:nvSpPr>
          <p:spPr>
            <a:xfrm>
              <a:off x="5229360" y="1969920"/>
              <a:ext cx="1522440" cy="9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Informer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activer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56" name="Ellipse 7"/>
          <p:cNvGrpSpPr/>
          <p:nvPr/>
        </p:nvGrpSpPr>
        <p:grpSpPr>
          <a:xfrm>
            <a:off x="201600" y="4743360"/>
            <a:ext cx="2449440" cy="1596960"/>
            <a:chOff x="201600" y="4743360"/>
            <a:chExt cx="2449440" cy="1596960"/>
          </a:xfrm>
        </p:grpSpPr>
        <p:pic>
          <p:nvPicPr>
            <p:cNvPr id="2557" name="Ellipse 7" descr=""/>
            <p:cNvPicPr/>
            <p:nvPr/>
          </p:nvPicPr>
          <p:blipFill>
            <a:blip r:embed="rId4"/>
            <a:stretch/>
          </p:blipFill>
          <p:spPr>
            <a:xfrm>
              <a:off x="201600" y="4743360"/>
              <a:ext cx="244944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8" name=""/>
            <p:cNvSpPr/>
            <p:nvPr/>
          </p:nvSpPr>
          <p:spPr>
            <a:xfrm>
              <a:off x="542880" y="4962600"/>
              <a:ext cx="1444680" cy="8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Qualifier la BDD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559" name="Ellipse 8" descr=""/>
          <p:cNvPicPr/>
          <p:nvPr/>
        </p:nvPicPr>
        <p:blipFill>
          <a:blip r:embed="rId5"/>
          <a:stretch/>
        </p:blipFill>
        <p:spPr>
          <a:xfrm>
            <a:off x="2868480" y="4672080"/>
            <a:ext cx="2068560" cy="1639800"/>
          </a:xfrm>
          <a:prstGeom prst="rect">
            <a:avLst/>
          </a:prstGeom>
          <a:ln w="0">
            <a:noFill/>
          </a:ln>
        </p:spPr>
      </p:pic>
      <p:sp>
        <p:nvSpPr>
          <p:cNvPr id="2560" name="Text Box 17"/>
          <p:cNvSpPr/>
          <p:nvPr/>
        </p:nvSpPr>
        <p:spPr>
          <a:xfrm>
            <a:off x="2876400" y="4892760"/>
            <a:ext cx="167976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romouvo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61" name="Ellipse 9"/>
          <p:cNvGrpSpPr/>
          <p:nvPr/>
        </p:nvGrpSpPr>
        <p:grpSpPr>
          <a:xfrm>
            <a:off x="4816440" y="4681440"/>
            <a:ext cx="2754360" cy="1590840"/>
            <a:chOff x="4816440" y="4681440"/>
            <a:chExt cx="2754360" cy="1590840"/>
          </a:xfrm>
        </p:grpSpPr>
        <p:pic>
          <p:nvPicPr>
            <p:cNvPr id="2562" name="Ellipse 9" descr=""/>
            <p:cNvPicPr/>
            <p:nvPr/>
          </p:nvPicPr>
          <p:blipFill>
            <a:blip r:embed="rId6"/>
            <a:stretch/>
          </p:blipFill>
          <p:spPr>
            <a:xfrm>
              <a:off x="4816440" y="4681440"/>
              <a:ext cx="27543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3" name=""/>
            <p:cNvSpPr/>
            <p:nvPr/>
          </p:nvSpPr>
          <p:spPr>
            <a:xfrm>
              <a:off x="5203800" y="4898880"/>
              <a:ext cx="1655640" cy="83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Traiter la prestation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64" name="ZoneTexte 11"/>
          <p:cNvSpPr/>
          <p:nvPr/>
        </p:nvSpPr>
        <p:spPr>
          <a:xfrm>
            <a:off x="0" y="3192480"/>
            <a:ext cx="29750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Référencemen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Prospection e-mailin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Parraina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Campagnes pub onlin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Annuair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5" name="ZoneTexte 12"/>
          <p:cNvSpPr/>
          <p:nvPr/>
        </p:nvSpPr>
        <p:spPr>
          <a:xfrm>
            <a:off x="2641680" y="3228840"/>
            <a:ext cx="2546280" cy="9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Optimiser la relation : e-mailing, newsletter, espace client, extran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6" name="ZoneTexte 13"/>
          <p:cNvSpPr/>
          <p:nvPr/>
        </p:nvSpPr>
        <p:spPr>
          <a:xfrm>
            <a:off x="5103720" y="3228840"/>
            <a:ext cx="1747800" cy="12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Site, site événementiel Newsletter, R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7" name="ZoneTexte 14"/>
          <p:cNvSpPr/>
          <p:nvPr/>
        </p:nvSpPr>
        <p:spPr>
          <a:xfrm>
            <a:off x="114480" y="6018120"/>
            <a:ext cx="2727000" cy="12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Newsletter, Jeux, Sondages, </a:t>
            </a:r>
            <a:br>
              <a:rPr sz="1900"/>
            </a:b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études, questionnaires, parrainage…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8" name="ZoneTexte 15"/>
          <p:cNvSpPr/>
          <p:nvPr/>
        </p:nvSpPr>
        <p:spPr>
          <a:xfrm>
            <a:off x="2563920" y="6018120"/>
            <a:ext cx="2454120" cy="12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Campagnes publicitaires onlin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Bannières, </a:t>
            </a:r>
            <a:br>
              <a:rPr sz="1900"/>
            </a:b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Affili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9" name="ZoneTexte 16"/>
          <p:cNvSpPr/>
          <p:nvPr/>
        </p:nvSpPr>
        <p:spPr>
          <a:xfrm>
            <a:off x="5397480" y="6018120"/>
            <a:ext cx="1749600" cy="12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Forums, SAV, FAQ, Gérer la relation client via SM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0" name="Ellipse 18" descr=""/>
          <p:cNvPicPr/>
          <p:nvPr/>
        </p:nvPicPr>
        <p:blipFill>
          <a:blip r:embed="rId7"/>
          <a:stretch/>
        </p:blipFill>
        <p:spPr>
          <a:xfrm>
            <a:off x="7238880" y="1785960"/>
            <a:ext cx="2519640" cy="1969920"/>
          </a:xfrm>
          <a:prstGeom prst="rect">
            <a:avLst/>
          </a:prstGeom>
          <a:ln w="0">
            <a:noFill/>
          </a:ln>
        </p:spPr>
      </p:pic>
      <p:sp>
        <p:nvSpPr>
          <p:cNvPr id="2571" name="Text Box 28"/>
          <p:cNvSpPr/>
          <p:nvPr/>
        </p:nvSpPr>
        <p:spPr>
          <a:xfrm>
            <a:off x="7534440" y="2143080"/>
            <a:ext cx="1460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Générer du bouche à oreil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2" name="ZoneTexte 19"/>
          <p:cNvSpPr/>
          <p:nvPr/>
        </p:nvSpPr>
        <p:spPr>
          <a:xfrm>
            <a:off x="7066080" y="3228840"/>
            <a:ext cx="2388960" cy="13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Buzz, Marketing vir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ommunauté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orums, chats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éseaux sociaux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Blog seeding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73" name="Ellipse 9"/>
          <p:cNvGrpSpPr/>
          <p:nvPr/>
        </p:nvGrpSpPr>
        <p:grpSpPr>
          <a:xfrm>
            <a:off x="7321680" y="4664160"/>
            <a:ext cx="2547720" cy="1590480"/>
            <a:chOff x="7321680" y="4664160"/>
            <a:chExt cx="2547720" cy="1590480"/>
          </a:xfrm>
        </p:grpSpPr>
        <p:pic>
          <p:nvPicPr>
            <p:cNvPr id="2574" name="Ellipse 9" descr=""/>
            <p:cNvPicPr/>
            <p:nvPr/>
          </p:nvPicPr>
          <p:blipFill>
            <a:blip r:embed="rId8"/>
            <a:stretch/>
          </p:blipFill>
          <p:spPr>
            <a:xfrm>
              <a:off x="7321680" y="4664160"/>
              <a:ext cx="254772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5" name=""/>
            <p:cNvSpPr/>
            <p:nvPr/>
          </p:nvSpPr>
          <p:spPr>
            <a:xfrm>
              <a:off x="7678800" y="4881600"/>
              <a:ext cx="1508040" cy="8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Vendre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76" name="ZoneTexte 16"/>
          <p:cNvSpPr/>
          <p:nvPr/>
        </p:nvSpPr>
        <p:spPr>
          <a:xfrm>
            <a:off x="7629480" y="5961240"/>
            <a:ext cx="1747800" cy="12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Site e-comme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Affili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comparateur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06:38:31Z</dcterms:created>
  <dc:creator/>
  <dc:description/>
  <dc:language>en-US</dc:language>
  <cp:lastModifiedBy/>
  <dcterms:modified xsi:type="dcterms:W3CDTF">2014-11-23T15:59:22Z</dcterms:modified>
  <cp:revision>1</cp:revision>
  <dc:subject/>
  <dc:title/>
</cp:coreProperties>
</file>